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F62-0A8A-4AA8-88D5-32187139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1D5-2038-4F0D-9B49-D2C0115C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F17-F3A6-47D0-8FA7-5DF8DEE3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048-D0CA-4C59-8AAF-5FF0ACE3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A38-20C7-4CC9-9B43-103C282C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EC1-8CFD-42E6-96DF-FBB2D4E2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A55-3E19-4EF4-8999-59DA5C17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48B-06A4-477C-AAF0-B35599FD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408-B2E5-4857-B45A-97CC6303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40A-E59C-4A41-86E5-37CDA6DD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B9C-1595-4B4F-A590-4FE9B7C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49C-F5D0-48D5-84ED-CFC60EA7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9805-2A44-4493-990F-A5AF9AD65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441972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62120"/>
            <a:ext cx="838188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&amp;Ms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219320" y="4267080"/>
            <a:ext cx="3504960" cy="233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297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rs"/>
          <p:cNvPicPr/>
          <p:nvPr/>
        </p:nvPicPr>
        <p:blipFill>
          <a:blip r:embed="rId2"/>
          <a:srcRect l="0" t="0" r="51664" b="0"/>
          <a:stretch/>
        </p:blipFill>
        <p:spPr>
          <a:xfrm>
            <a:off x="4114800" y="2895480"/>
            <a:ext cx="4800600" cy="316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Mars"/>
          <p:cNvPicPr/>
          <p:nvPr/>
        </p:nvPicPr>
        <p:blipFill>
          <a:blip r:embed="rId3"/>
          <a:srcRect l="46667" t="0" r="0" b="0"/>
          <a:stretch/>
        </p:blipFill>
        <p:spPr>
          <a:xfrm>
            <a:off x="609480" y="304920"/>
            <a:ext cx="4876920" cy="220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9960" y="40752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297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rest Mars, S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80" y="49528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ma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inven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&amp;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is a chocolate center and candy co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andy coating prevents chocolate from melting in your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 1954 M&amp;M peanut chocolate candies were introdu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Inventor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Forrest E.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rest E. Mars was born on March 21, 19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rest’s parents were divo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was born in Minnesota but was raised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entered University of California but then got transferred to Yale University.  He completed a degree in engineering in 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father, Frank C. Mars owned a successful candy shop in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worked in his father’s candy shop for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died on July 1,1999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6Z</dcterms:created>
  <dc:creator>install</dc:creator>
  <dc:description/>
  <dc:language>en-US</dc:language>
  <cp:lastModifiedBy>install</cp:lastModifiedBy>
  <dcterms:modified xsi:type="dcterms:W3CDTF">2011-06-01T17:35:50Z</dcterms:modified>
  <cp:revision>7</cp:revision>
  <dc:subject/>
  <dc:title>Slide 1</dc:title>
</cp:coreProperties>
</file>